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5EB9-DB99-4C40-904D-184C8C80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D886-66DA-417D-9C3C-CF3FF7AA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681B-D282-467F-B640-D98C0789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46C8-E02A-46E3-A75E-80D3E84B1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F49C-69E8-49AF-9B4C-617C6DAF8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D43A-8360-4D0F-A158-F644C12C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F8C1-A258-4642-9A80-23CC344F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67F1-305C-488F-A117-9C99150C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CD99-27B3-4408-ADA6-82A19998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7085-311E-4631-874A-63414AFF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6D37-7D15-4661-91FB-6FF37320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4340-15C2-40FD-92B9-2037B69E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925F-C335-40D1-80C5-3E02D525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6AE0-5444-4AF1-83AB-3A8631A8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E9B6-1251-4215-A092-7C247A0D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3AB7-6751-4472-9CC3-629B8F1AC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C2E7-40C9-4F22-B9F4-58E78B40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5BEF-87C8-4E76-95BF-F34D3ADF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754F-2F85-4407-8C31-A6B90C46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4D92-B11C-43A7-B6F1-0E435C70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BAE3-5DF1-4AC4-90D3-0DD49354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3DB1-44E6-425D-8694-158E27BC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1DC0-1B8B-493C-B6FF-465ACC05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9DC3-7FF7-4ED6-8A61-7221A1A5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E1E5-15E0-4397-8A9E-EC7E3CF7A60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CEDF-E7CE-4D27-A275-8BE1F6321AD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ТАРАКЛИЙСКОЕ ГЛАВНОЕ РАЙОННОЕ УПРАВЛЕНИЕ ОБРАЗОВАНИЯ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 МОЛОДЕЖИ И СПОРТ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400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cc00"/>
                </a:solidFill>
                <a:uFillTx/>
                <a:latin typeface="Arial Black"/>
              </a:rPr>
              <a:t>«Компетентностный подход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cc00"/>
                </a:solidFill>
                <a:uFillTx/>
                <a:latin typeface="Arial Black"/>
              </a:rPr>
              <a:t>на уроках музыки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ru-RU" sz="2000" spc="-1" strike="noStrike" u="sng">
                <a:solidFill>
                  <a:srgbClr val="ffcc00"/>
                </a:solidFill>
                <a:uFillTx/>
                <a:latin typeface="Arial Black"/>
              </a:rPr>
              <a:t>Подготовила: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cc00"/>
                </a:solidFill>
                <a:uFillTx/>
                <a:latin typeface="Arial Black"/>
              </a:rPr>
              <a:t>                                                                                       </a:t>
            </a:r>
            <a:r>
              <a:rPr b="1" lang="ru-RU" sz="2000" spc="-1" strike="noStrike" u="sng">
                <a:solidFill>
                  <a:srgbClr val="ffcc00"/>
                </a:solidFill>
                <a:uFillTx/>
                <a:latin typeface="Arial Black"/>
              </a:rPr>
              <a:t>учитель музыкального воспитани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cc00"/>
                </a:solidFill>
                <a:uFillTx/>
                <a:latin typeface="Arial Black"/>
              </a:rPr>
              <a:t>                                                                                   </a:t>
            </a:r>
            <a:r>
              <a:rPr b="1" lang="ru-RU" sz="2000" spc="-1" strike="noStrike" u="sng">
                <a:solidFill>
                  <a:srgbClr val="ffcc00"/>
                </a:solidFill>
                <a:uFillTx/>
                <a:latin typeface="Arial Black"/>
              </a:rPr>
              <a:t>теоретического лицея №2 г.Тараклия,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cc00"/>
                </a:solidFill>
                <a:uFillTx/>
                <a:latin typeface="Arial Black"/>
              </a:rPr>
              <a:t>                                                                               </a:t>
            </a:r>
            <a:r>
              <a:rPr b="1" lang="ru-RU" sz="2000" spc="-1" strike="noStrike" u="sng">
                <a:solidFill>
                  <a:srgbClr val="ffcc00"/>
                </a:solidFill>
                <a:uFillTx/>
                <a:latin typeface="Arial Black"/>
              </a:rPr>
              <a:t>главный специалист-методист ГРУОМС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cc00"/>
                </a:solidFill>
                <a:uFillTx/>
                <a:latin typeface="Arial Black"/>
              </a:rPr>
              <a:t>                                                                                                    </a:t>
            </a:r>
            <a:r>
              <a:rPr b="1" lang="ru-RU" sz="2000" spc="-1" strike="noStrike" u="sng">
                <a:solidFill>
                  <a:srgbClr val="ffcc00"/>
                </a:solidFill>
                <a:uFillTx/>
                <a:latin typeface="Arial Black"/>
              </a:rPr>
              <a:t>Нэля Дмитриевна Мостовая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60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этап – выразительное чтение стихотворения, обсуждение его настроения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звуковых образов, нюансов выразительности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I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этап – ритмизация каждой строки, опираясь на выразительное чтение и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исполнение ритма звучащими жестами, надстрочная запись ритмического рисунка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II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этап – инструментовка, запись смены инструментов и динамик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в музыкальной партитуре стихотворения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V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 этап – распределение партий (образов) между исполнителями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озможны мини-репетиции, выбор дирижёра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этап – выразительное чтение стихотворения группами исполнителей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од инструментальный аккомпанемент (по ритмической партитуре)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60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Метод озвучивания картин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направлен на развитие звукового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 воображения, музыкального мышления учащихся, способствует накоплению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ими опыта творческой деятельности и усвоению смысла понятий «музыкальная живопись»,    «живописная музыка», «звуковая картина», «изобразительность музыки».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61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этап – анализ «звукового пространства» картины, выявление её звучащих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образов. Учащиеся должны мысленно, в своём воображении «оживить» картину и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«войти в неё», стать её частью, либо занять позицию автора, художника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Тогда они услышат, что жизнь, отражённая  на картине, не безмолвна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а наполнена звуками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этап – создание звуковой палитры картины, которое предполагает выбор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инструментов, звучащих жестов и способов речевого, вокального, инструментального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и шумового звукоподражания для воплощения выявленных на предыдущем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этапе звуковых образов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II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этап – сочинение учащимися «либретто» - литературно-сюжетной основы картины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её краткого словесного описания. На этом этапе учащиеся не только  применяют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свой опыт литературно-творческой деятельности, но и осваивают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(углубляют, закрепляют) понятие «либретто», проигрывая в собственной деятельности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его значение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V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этап – распределение исполнительских ролей и создание литературно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музыкальной партитуры картины в записи её на доске и в тетрадях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этап – концертно-ролевое исполнение звучащей картины по созданной партитуре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848720" cy="55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 Black"/>
              </a:rPr>
              <a:t>Методы импровизации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Импровизация – это непосредственное создание образа «здесь и сейчас»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  В учебном процессе используются инструментальная, вокальная, смешанная, пластическая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  и словесная импровизации.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60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 Black"/>
              </a:rPr>
              <a:t>Вокальная ритмо-мелодическая</a:t>
            </a:r>
            <a:r>
              <a:rPr b="1" i="1" lang="ru-RU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импровизация нацелена на создани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  учащимися мелодии.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Основой для импровизации служит поэтический текст.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60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этап – выразительное чтение поэтического текста и осмысление художественной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задачи, т.е. характера будущей мелодии, её темпа, жанровой основы, лада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направления звуковысотного движения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этап – ритмизация стихотворных строк на основе их выразительного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чтения и исполнения ритма звучащими жестами (опрос проводится «в цепочку»);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выбор наиболее интересных и выразительных  ритмических рисунков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запись выбранного ритмического рисунка;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II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этап – индивидуальная импровизация мелодических рисунков  в найденном ритме. Коллективно выбирается лучшая, наиболее выразительная мелодия, либо составляется общая из разных фрагментов, записывается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на нотоносце и пропевается всем классом. Продолжение начатой в классе мелодии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может стать домашним заданием. На следующем уроке исполняется сочинённая в классе мелодия и предложенные учащимися варианты её продолжения. Выбираются лучшие варианты.  Сочинённая таким образом песня является результатом коллективного творчества и с удовольствием исполняется классом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как своя музыка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8153280" cy="62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V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этап – сочиняется к песне ритмический аккомпанемент. Импровизация уже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танет вокально-инструментальной (смешанной). Подобрав на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звуковысотных инструментах коллективно сочинённую мелодию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учащиеся импровизируют вступление и заключение к песне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этап – песня исполняется со вступлением, аккомпанементом и заключением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520" y="301680"/>
            <a:ext cx="8458200" cy="61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 Black"/>
              </a:rPr>
              <a:t>Словесная импровизация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в ситуации «Если бы мы были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  композиторами» опирается на достаточно широкий запас музыкальных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  слуховых представлений и знаний учащихся о языке музыки.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В эпоху пересмотра ценностных ориентаций, быстрых изменений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   содержательных, методических и технологических аспектов образования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   перед обществом стоит вопрос: в чём заключается задача современной школы?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Методы и методические приёмы, формирующие критическое мышление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371600" y="55623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На уроках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по музыкальному воспитанию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60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 Black"/>
              </a:rPr>
              <a:t>Метод мозгового штурма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- оперативный метод решения проблемы на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  основе стимулирования творческой активности,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этап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Arial Black"/>
              </a:rPr>
              <a:t>Постановка проблемы (создание «проблемного поля» или банка идей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812880" indent="-812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Генерация идей (анализ проблемы или идеи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812880" indent="-812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Группировка, отбор и оценка идей  (обработка результатов).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56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Arial Black"/>
              </a:rPr>
              <a:t>Cluster-Method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(ассоциативная гроздь) - служит для стимулирования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   мыслительной деятельности.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301320"/>
            <a:ext cx="8077320" cy="62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Метод «ИНСЕРТ»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«ИНСЕРТ» - приём маркировки текста – интерактивная система заметок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для эффективного чтения и размышления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I — interactive — интерактивная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N — noting — размечающая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S — system — система для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E — effective — эффективного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 — reading and —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чтения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 — thinking —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размышлени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8600" y="301320"/>
            <a:ext cx="8686800" cy="62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Знак «галочка» (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) – отметьте в тексте уже известную вам информацию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Знак «плюс» (+) – отметьте новую информацию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Знак «минус» (-) – отмечается то, что идёт вразрез с имеющимися у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вас представлениями, то, о чём вы думали иначе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Знак «вопрос» (?) – отмечается то, что осталось непонятным и требует дополнительного изучения и понимания, то, о чём вы бы хотели узнать подробнее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Знак «восклицательный знак» (!) – отмечается то, что вызвало интерес ­ и желание узнать об этом больше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  Во время чтения учащиеся делают на полях пометки;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Заполнить таблицу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0" y="1981080"/>
          <a:ext cx="8915400" cy="4454640"/>
        </p:xfrm>
        <a:graphic>
          <a:graphicData uri="http://schemas.openxmlformats.org/drawingml/2006/table">
            <a:tbl>
              <a:tblPr/>
              <a:tblGrid>
                <a:gridCol w="1751040"/>
                <a:gridCol w="1751040"/>
                <a:gridCol w="1752480"/>
                <a:gridCol w="2116080"/>
                <a:gridCol w="1544760"/>
              </a:tblGrid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V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уже знал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новое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+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интересно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?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не ясно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есть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вопросы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!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хочу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узнать больше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 Black"/>
              </a:rPr>
              <a:t>Оставьте за мной последнее слово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 Приём для стимулирования размышления после чтения текста.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Arial Black"/>
              </a:rPr>
              <a:t>Метод проектов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304920" y="2971440"/>
            <a:ext cx="8534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Позволяет учащимся проявить как свои знания, умения в самостоятельной работе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с информацией, так и волевые качества, интересы предпочтения.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32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Arial Black"/>
              </a:rPr>
              <a:t>Метод «синквейн»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 Black"/>
              </a:rPr>
              <a:t> -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 является одним из методов развития логического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   мышления.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228600" y="3885840"/>
            <a:ext cx="87631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Помогает научиться доказательно и логично строить свои высказывания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о музыке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301680"/>
            <a:ext cx="7848720" cy="61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«Интеграция, обобщение, осмысление новых знаний, увязывание их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     с жизненным опытом ребёнка на основе формирования умения учитьСЯ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    (учить СЕБЯ)».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Black"/>
              </a:rPr>
              <a:t>Формы итогового контроля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На уроках музыкального воспитани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 Black"/>
              </a:rPr>
              <a:t>Урок-интервью </a:t>
            </a:r>
            <a:r>
              <a:rPr b="1" i="1" lang="en-US" sz="3600" spc="-1" strike="noStrike">
                <a:solidFill>
                  <a:srgbClr val="ffffff"/>
                </a:solidFill>
                <a:latin typeface="Arial Black"/>
              </a:rPr>
              <a:t>(диалог с Человеком искусства)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33520" y="26668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предполагает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встречу с учеником, либо несколькими учениками школы (района, города, края),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добившихся замечательных успехов в какой-либо области искусства.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 Black"/>
              </a:rPr>
              <a:t>Урок-«brainstorm» («мозговой штурм»)</a:t>
            </a: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 ориентирован на решение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      разнообразных проблем искусства, содержательных и не имеющих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     однозначной интерпретации.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 Black"/>
              </a:rPr>
              <a:t>Урок-прогноз</a:t>
            </a:r>
            <a:br>
              <a:rPr sz="3200"/>
            </a:br>
            <a:r>
              <a:rPr b="1" i="1" lang="ru-RU" sz="4400" spc="-1" strike="noStrike">
                <a:solidFill>
                  <a:srgbClr val="ffffff"/>
                </a:solidFill>
                <a:latin typeface="Arial Black"/>
              </a:rPr>
              <a:t> (арт-прогноз)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подразумевает обсуждение возможных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перспектив развития искусства в третьем тысячелетии.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301320"/>
            <a:ext cx="8534160" cy="62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В заключение хотелось бы предложить вам несколько работ учащихся 7 классов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  на     тему: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«Музыка – это…».</a:t>
            </a:r>
            <a:br>
              <a:rPr sz="2800"/>
            </a:br>
            <a:br>
              <a:rPr sz="2800"/>
            </a:b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Музыка – это моё вдохновенье,</a:t>
            </a:r>
            <a:br>
              <a:rPr sz="2400"/>
            </a:b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    Живёт лишь во мне её забвенье!</a:t>
            </a:r>
            <a:br>
              <a:rPr sz="2400"/>
            </a:b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    Повсюду лишь музыку видишь ты:</a:t>
            </a:r>
            <a:br>
              <a:rPr sz="2400"/>
            </a:b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    Поющие птицы, захват тишины,</a:t>
            </a:r>
            <a:br>
              <a:rPr sz="2400"/>
            </a:b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   Повсюду есть музыка, только поверь</a:t>
            </a:r>
            <a:br>
              <a:rPr sz="2400"/>
            </a:b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   Большой человек и маленький зверь,</a:t>
            </a:r>
            <a:br>
              <a:rPr sz="2400"/>
            </a:b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  Прислушайся в ветер, послушай капель.</a:t>
            </a:r>
            <a:br>
              <a:rPr sz="2400"/>
            </a:b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   Повсюду есть музыка, только поверь!</a:t>
            </a:r>
            <a:br>
              <a:rPr sz="2400"/>
            </a:b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Алин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8153280" cy="61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Музыка – это… Великолепно! Удивительно! Звуки, соединяясь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могут      создавать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мелодию, музыку. Но не каждое собрание звуков может называться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музыкой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Музыка лечит, музыка поднимает настроение, музыка сподвигает на великие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дела. Музыка – это больше, чем развлечение!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 Black"/>
              </a:rPr>
              <a:t>Сергей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61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Компетенция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– компонент качества человека, определяющий его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    способность выполнять определённую группу действий в сфере того или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    иного рода деятельности.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2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Уметь мобилизовать и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актуализировать свои компетенции для решения реальных задач означает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компетентность.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4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«Ключевые компетенции для Европы»: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Это политические и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социальные компетенции,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компетенции касающиеся жизни в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многокультурном обществе,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компетенции, определяющие владение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устным и письменным общением, компетенции, связанные с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возникновением информационного общества, компетенции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 реализующие способность и желание учиться всю жизнь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Они могут быть перечислены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следующим образом: изучать, искать, думать, сотрудничать, приниматься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 за дело и  адаптироваться.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о 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 Black"/>
              </a:rPr>
              <a:t>методах взаимосвязи музыки</a:t>
            </a:r>
            <a:br>
              <a:rPr sz="2000"/>
            </a:b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 Black"/>
              </a:rPr>
              <a:t> с другими видами искусства.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 Их действие двухстороннее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-       проигрывая смысловой аналог художественного образа с помощью интонационных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       средств других видов искусства, учащиеся «подстраиваются» к восприятию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       музыкального образа посредством актуализации общехудожественного опыта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-       моделирование музыкального восприятия средствами других видов искусства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       помогает осуществлению его аналитической функции и становлению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       личностной ассоциативной интерпретации художественного опыта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 Black"/>
              </a:rPr>
              <a:t>Методы речевого интонирования</a:t>
            </a:r>
            <a:r>
              <a:rPr b="1" i="1" lang="ru-RU" sz="32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: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 Black"/>
              </a:rPr>
              <a:t>Метод «рисования голосом»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 Black"/>
              </a:rPr>
              <a:t>Метод речевой полифонии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 Black"/>
              </a:rPr>
              <a:t>Метод озвучивания стихотворения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 Black"/>
              </a:rPr>
              <a:t>Метод создания музыкальной партитуры стиха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 Black"/>
              </a:rPr>
              <a:t>Ритмодекламаци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60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 Black"/>
              </a:rPr>
              <a:t>Метод озвучивания стихотворения,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как и его вариант –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i="1" lang="en-US" sz="3600" spc="-1" strike="noStrike">
                <a:solidFill>
                  <a:srgbClr val="ffffff"/>
                </a:solidFill>
                <a:latin typeface="Arial Black"/>
              </a:rPr>
              <a:t>метод создания музыкальной партитуры стиха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01:58:46Z</dcterms:created>
  <dc:creator>Customer</dc:creator>
  <dc:description/>
  <dc:language>en-US</dc:language>
  <cp:lastModifiedBy>Customer</cp:lastModifiedBy>
  <dcterms:modified xsi:type="dcterms:W3CDTF">2010-12-08T20:58:53Z</dcterms:modified>
  <cp:revision>3</cp:revision>
  <dc:subject/>
  <dc:title>ТАРАКЛИЙСКОЕ ГЛАВНОЕ РАЙОННОЕ УПРАВЛЕНИЕ ОБРАЗОВАНИЯ  МОЛОДЕЖИ И СПОРТА</dc:title>
</cp:coreProperties>
</file>